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347-FC2B-484F-83EA-9A792CBA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8A-163C-4115-95B7-DE43DA8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3C2-B7BE-481E-90BE-6018813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CCB-73BB-4249-84B3-90297C0C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E3A-7271-4F8F-B3B6-8B18C69B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2868-AFFA-4529-B701-BAA3B9C3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482-B44D-4F22-B980-1CD6F01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E40-8EA8-427C-AE5C-47FFE258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66DC-2222-4996-B316-221637B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2F5B-5FE3-46D3-A813-465E6EC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721-6330-4D19-86F1-44C9C80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8D3-3CB7-4752-886A-4E3AFB4F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95F-8383-45AA-9420-6AEA584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F14-C7D2-41B7-8A95-1C5BA14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383-8B9D-4FE6-B62D-925CFCC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A2E8-D67E-4B64-B42B-23F1B6CA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C8ED-398E-4950-AFF0-3409FD8F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B83A-95FE-4449-AA60-5429EE91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91F2-C6DF-4FBF-8276-A7F6AD6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6AAA-6E33-4659-9360-322F4B1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8F20-E20A-4995-919C-ED1AFA2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13B0-4190-46D5-8C88-CB6995D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D22-60A5-4CED-A1B6-8B2FDB2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27F3-F97E-42F3-A0A3-FAD82237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F596-2B71-472C-8F9D-7D2EBEE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F23F-5B03-4774-BD2A-96F259B6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C894-E817-4509-80B3-7429619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A820-EB95-432B-8E6E-35A6077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96A4-5B75-4A70-8F5D-830035CD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468D-C2CD-4D91-9E4B-0F259D9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B5DB-834F-43FD-AE50-7D6AAB04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A118-D868-4DE7-8BF6-F588AE75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1C59-6687-474B-B434-29D44DF4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0BD-9397-4521-918E-7BF09FA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FAD6-B6D5-44C7-9A7D-1C7A5720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E529-81BF-46EF-B868-640ADBA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541C-E0D4-471E-BFB1-FB8FA98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C6F0-2AA8-45A5-8624-81BF425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E074-6A9E-4C4F-B5AD-1E6FE19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FFAA-FA18-4C8E-BFF5-843F06A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2B7D-9B22-42E8-AE6F-B2CB9C1B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BE8A-BEAA-4795-AA0D-7DB70B77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569A-53AF-4D25-9B6A-986C729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D7B1-0C76-433D-A290-604D844E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466-EABE-4591-94F0-5688F66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F217-8D2D-495A-AA65-219133B2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C83A1-2D49-41F8-8CB8-31F52459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7A10-C1E2-4875-9844-1FCDDF41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D4FD-23F1-4A06-B587-7F7690C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1267-5BA9-4A7E-A54C-570E530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2B89-D77F-402B-B2B9-ECE4846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7E86-27D5-4563-AEB8-3B7F211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95CB-A36F-4A6E-AEC0-F5DB997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7F29-2E3D-491F-B80D-DDC02FB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D294-2F22-47D0-9AA3-FD831E7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C4C-5A95-4948-9FF8-CF7E57C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6AB7-1AA8-4F27-A21B-CB0AF548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E0F-EC72-428E-B1E4-8B23B65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03E-C6C8-4674-A296-57A8640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D4A-D624-4869-A41E-CEDA89C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09BD-2550-42D5-B1AC-4A45EAFE43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6A76-FBBE-4F5A-90D7-A58B21F92B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97A5-751A-4632-85CA-546EB67BD8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568-0A43-46A8-8E95-42D99943F1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1EC-7C6B-4C56-B420-842819EB57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  <a:ea typeface="Arial"/>
              </a:rPr>
              <a:t>Ch. 56 Warm-U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240" y="1447560"/>
            <a:ext cx="480060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es acid precipitation affect the environm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lain how the greenhouse effect can be both positive and nega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hould humans be concerned about biological magnification? Explai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105520" y="1600200"/>
            <a:ext cx="373356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6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Eutroph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lobal 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Acid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21760"/>
            <a:ext cx="876312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Acid Precipita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219320"/>
            <a:ext cx="8534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in, snow, or fog with a pH less than 5.6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burning of wood &amp; fossil fue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lease sulfur oxides and nitrogen oxid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act with water in the atmosphere to produce sulfuric and nitric acid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rcRect l="0" t="0" r="0" b="3770"/>
          <a:stretch/>
        </p:blipFill>
        <p:spPr>
          <a:xfrm>
            <a:off x="1905120" y="3657600"/>
            <a:ext cx="51814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acid precipitation on a forest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Picture 4" descr="_x0012_03-10-AcidRain.jpg    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76320" y="609480"/>
            <a:ext cx="8991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rain damage to statuary, 1908 &amp; 1968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1" name="Picture 4" descr="_x0014_03-10x2-Statuary.jpg    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380880" y="865080"/>
            <a:ext cx="8420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2" descr="56_25BioMagnificationPCB-L.jpg"/>
          <p:cNvPicPr/>
          <p:nvPr/>
        </p:nvPicPr>
        <p:blipFill>
          <a:blip r:embed="rId1"/>
          <a:stretch/>
        </p:blipFill>
        <p:spPr>
          <a:xfrm>
            <a:off x="380880" y="1676520"/>
            <a:ext cx="4527720" cy="458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90760" y="1437840"/>
            <a:ext cx="47242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 become more concentrated in successive trophic levels of a food we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 can’t be broken down &amp; magnify in concentration up the food chai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: mercury in fis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28600" y="380880"/>
            <a:ext cx="8763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1239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Human activities are depleting the atmospheric ozone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59984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ife on earth is protected from the damaging affects of ultraviolet radiation (UV) by a layer of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ozo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lorine-containing compounds erode the ozone lay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56_31_AntarcticOzoneHole-L.jpg"/>
          <p:cNvPicPr/>
          <p:nvPr/>
        </p:nvPicPr>
        <p:blipFill>
          <a:blip r:embed="rId1"/>
          <a:stretch/>
        </p:blipFill>
        <p:spPr>
          <a:xfrm>
            <a:off x="4038480" y="3657600"/>
            <a:ext cx="4883400" cy="2741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56_29AntarcticOzoneLayer-L.jpg"/>
          <p:cNvPicPr/>
          <p:nvPr/>
        </p:nvPicPr>
        <p:blipFill>
          <a:blip r:embed="rId2"/>
          <a:stretch/>
        </p:blipFill>
        <p:spPr>
          <a:xfrm>
            <a:off x="304920" y="3591000"/>
            <a:ext cx="3504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Greenhouse Effec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1142640"/>
            <a:ext cx="8686800" cy="28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reenhous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bsorption of heat the Earth experiences due to certain greenhouse ga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water vapor absorb infrared radiation and re-reflect back toward Ear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arth needs this heat, but too much could be disastrou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3733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Rising atmospheric CO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600" y="1142640"/>
            <a:ext cx="8686800" cy="14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3124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 Industrial Revolution, the concentration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atmosphere has increased greatly as a resul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fossil fu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5" descr="56_27CarbonDioxTempRise-L.jpg"/>
          <p:cNvPicPr/>
          <p:nvPr/>
        </p:nvPicPr>
        <p:blipFill>
          <a:blip r:embed="rId1"/>
          <a:stretch/>
        </p:blipFill>
        <p:spPr>
          <a:xfrm>
            <a:off x="1828800" y="2590920"/>
            <a:ext cx="51055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Global Warming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1142640"/>
            <a:ext cx="86868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ies predict a doubling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atmosphere will cause a 3ºC increase in the average temperature of Eart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ing temperatures could cause polar ice cap melting, which could flood coastal are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ach: stabiliz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of fossil fu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uce deforest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6" descr="http://plainswindeis.anl.gov/images/photos/wind_450KW_turbine_IA_V_13764.jpg"/>
          <p:cNvPicPr/>
          <p:nvPr/>
        </p:nvPicPr>
        <p:blipFill>
          <a:blip r:embed="rId1"/>
          <a:stretch/>
        </p:blipFill>
        <p:spPr>
          <a:xfrm>
            <a:off x="6553080" y="3886200"/>
            <a:ext cx="1932120" cy="2705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>
            <a:off x="3200400" y="3921120"/>
            <a:ext cx="2743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hapter 56: Conservation Biology and Global Chan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2" name="Picture 5" descr="56_01SmokyHoneyeater-L.jpg"/>
          <p:cNvPicPr/>
          <p:nvPr/>
        </p:nvPicPr>
        <p:blipFill>
          <a:blip r:embed="rId1"/>
          <a:stretch/>
        </p:blipFill>
        <p:spPr>
          <a:xfrm>
            <a:off x="2209680" y="3160800"/>
            <a:ext cx="471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you need to k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value of biodiversity, and the major human threats t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human activity is changing the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6000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Biodiversity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nservation biology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goal-oriented science that seeks to counter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diversity cri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the current rapid decrease in Earth’s variety of lif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is a natural phenomenon that has been occurring since life evolved on eart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extinction is what underlies the biodiversity crisi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high rate of species extinction is being caused by human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04560" y="533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levels of biodiversity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genetic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pecies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ecosystem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3" descr="56_03BiodiversityLevels-L.jpg"/>
          <p:cNvPicPr/>
          <p:nvPr/>
        </p:nvPicPr>
        <p:blipFill>
          <a:blip r:embed="rId1"/>
          <a:stretch/>
        </p:blipFill>
        <p:spPr>
          <a:xfrm>
            <a:off x="4419720" y="1295280"/>
            <a:ext cx="4475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5122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The four major threats to biodiversity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523880"/>
            <a:ext cx="86868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abitat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1920" indent="-26964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alteration of habitat is the single greatest threat to bio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Introduced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invasive/nonnative/exotic spec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verexplo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harvest wild plants/anima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lobal chan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 climate, atmosphere, &amp; ecological syste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duce Earth’s capacity to sustain lif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Perpetua"/>
              </a:rPr>
              <a:t>Movement corridor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promote dispersal if habitats are fragmen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56_18ArtificialCorridor-L.jpg"/>
          <p:cNvPicPr/>
          <p:nvPr/>
        </p:nvPicPr>
        <p:blipFill>
          <a:blip r:embed="rId1"/>
          <a:stretch/>
        </p:blipFill>
        <p:spPr>
          <a:xfrm>
            <a:off x="1676520" y="2514600"/>
            <a:ext cx="6019560" cy="4078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ndscape conserv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7a07"/>
                </a:solidFill>
                <a:latin typeface="Franklin Gothic Book"/>
              </a:rPr>
              <a:t>Biodiversity Hot Spo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56_19BiodiversHotSpots-L.jpg"/>
          <p:cNvPicPr/>
          <p:nvPr/>
        </p:nvPicPr>
        <p:blipFill>
          <a:blip r:embed="rId1"/>
          <a:stretch/>
        </p:blipFill>
        <p:spPr>
          <a:xfrm>
            <a:off x="914400" y="1482840"/>
            <a:ext cx="77724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3520" y="1447920"/>
            <a:ext cx="81532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ess nitrogen from agriculture enters aquatic ecosyst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9528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gae and bacteria bloom/di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duce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ish and invertebrates d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380880"/>
            <a:ext cx="8763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Eutroph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" descr="54_07Eutrophication_UP"/>
          <p:cNvPicPr/>
          <p:nvPr/>
        </p:nvPicPr>
        <p:blipFill>
          <a:blip r:embed="rId1"/>
          <a:stretch/>
        </p:blipFill>
        <p:spPr>
          <a:xfrm>
            <a:off x="228600" y="3657600"/>
            <a:ext cx="3381480" cy="267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56_24_GulfMexicoDeadZone-L.jpg"/>
          <p:cNvPicPr/>
          <p:nvPr/>
        </p:nvPicPr>
        <p:blipFill>
          <a:blip r:embed="rId2"/>
          <a:stretch/>
        </p:blipFill>
        <p:spPr>
          <a:xfrm>
            <a:off x="3886200" y="3657600"/>
            <a:ext cx="5032440" cy="1981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38862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issippi basin dead zone (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hris Nancy Chou</cp:lastModifiedBy>
  <cp:lastPrinted>2001-01-06T03:20:03Z</cp:lastPrinted>
  <dcterms:modified xsi:type="dcterms:W3CDTF">2012-08-30T04:27:53Z</dcterms:modified>
  <cp:revision>314</cp:revision>
  <dc:subject/>
  <dc:title>Nerve activates contraction</dc:title>
</cp:coreProperties>
</file>